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7731-2505-4E53-8D62-A4FB51E957C7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B77C-A9E1-4109-800F-0C979C80D063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786B-DBF8-4023-976C-351F910B93A7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CEE5-0286-4A38-9AAA-CFA40518C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4F4E-00E3-43AB-A818-3C50DBD9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8E86-723C-4EDD-8714-E1433D41D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A34B-26A4-4A3F-8B47-3B5F34F26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1A80-08B5-4B19-8CD4-76A3D7D44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0599-6C5B-4DDC-B0C1-924C210B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296D-E37D-4FC7-8AD3-CB5B5874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24F8-4A83-4CD3-86EA-93B790AB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BD71F-A194-48E9-89EB-9DCBB524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73FE-C62B-4A2F-A58B-266DD922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341C-AE2B-4932-A282-5B55E1ED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A546-715E-402F-9AFB-659998CC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D731-6F4F-4504-80CE-5E911525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174D6-CAE9-4A25-BDAD-73A9606F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0E6B-B563-4A1B-9E48-E7966BBE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8B18-87A5-4137-AB0A-13EF77464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CC8A-478E-42D2-B11F-185D2183A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A395B-C177-4777-9458-EBCD9A834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EC359-F0AD-4C58-B63C-860BD48E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EEC1C-AFB9-4EB2-BBE0-46F87C0B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3BBA7-E1BB-4CFD-AF19-A2DFFF02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33D6E-8186-45B2-8807-2A3E371B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8F5B-C7A3-438C-BD29-6BCB7BFF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FD9C5-7920-40DE-BA62-004DFDCA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7275C-66E4-4AE8-9026-ADB7765A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C070F-9A8A-4AD4-A6EC-3F15F9AC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A4C2B-61B9-4B85-BF56-DBCEDF7C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D2CEE-68ED-4ED4-891D-14023A91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2AAD0-2E1D-445B-AD41-9F0F58C82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81413-FAC2-4CCF-97C6-C2472BB3B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1372B-9003-4590-8978-81CB11EB5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61F0D-7B2A-4746-8B6B-51F9313C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5DFB8-0D7B-4ACD-A102-20F44D17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9763-445D-42D4-B38F-1794207B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ED307-36C5-427D-824E-E7955192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6C961-5DE8-4473-9752-629282E9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BE7D6-8EBC-4258-A7B6-05035653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1AC68-E584-4F75-AB20-0D3C71D8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1CE50-5AFE-414E-A603-29D88991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8228D-A290-4DE5-8180-7844DDAF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A3047-51B7-45BC-9619-20CBF599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E0E9A-C3CE-4A20-9739-713E99049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AA533-7F21-4D65-9079-FE1AEB739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ADE14-5474-4B56-9D12-843F05C31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5290-CEDF-454F-8442-597F3638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CE7CC-5A0A-489B-A0E4-9D5B8D75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2CD73-DB2E-472C-BB14-261A2395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37480-061B-4849-A0D7-02CD5750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24EE5-86B2-41FC-8F52-EF5E86D0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5B796-5D5D-452F-9A07-7897AE25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418A4-83FB-4C75-9BB3-07CB594A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CF771-936E-4B7A-880F-6F86A5A2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CC499-23D6-4361-A2E9-49F13D2A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CFA29-A13B-4771-B681-18A5C7AD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FB5C8-90AA-484E-B4D0-C1301C492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865D-CA3E-4509-9C75-B72650E9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E6101-1282-4AF3-BBCC-40436F443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75F8-06F1-4BE7-817C-E3EDF145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ACD2-D334-4515-9F60-79808AEF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8E16-00A6-4A99-BB0D-88061E71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418a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04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16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316886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316886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316886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316886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316886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F8B2-FE6D-4652-B7C8-EDA5830B2BDF}" type="datetime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00DC-E182-49D8-B8B3-3B70986A4406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3"/>
          <p:cNvGrpSpPr/>
          <p:nvPr/>
        </p:nvGrpSpPr>
        <p:grpSpPr>
          <a:xfrm>
            <a:off x="546120" y="-4680"/>
            <a:ext cx="5014800" cy="6862680"/>
            <a:chOff x="546120" y="-4680"/>
            <a:chExt cx="5014800" cy="6862680"/>
          </a:xfrm>
        </p:grpSpPr>
        <p:sp>
          <p:nvSpPr>
            <p:cNvPr id="49" name="Freeform 6"/>
            <p:cNvSpPr/>
            <p:nvPr/>
          </p:nvSpPr>
          <p:spPr>
            <a:xfrm>
              <a:off x="984240" y="-4680"/>
              <a:ext cx="1063440" cy="2782800"/>
            </a:xfrm>
            <a:custGeom>
              <a:avLst/>
              <a:gdLst/>
              <a:ahLst/>
              <a:rect l="l" t="t" r="r" b="b"/>
              <a:pathLst>
                <a:path w="670" h="1753">
                  <a:moveTo>
                    <a:pt x="0" y="1696"/>
                  </a:moveTo>
                  <a:lnTo>
                    <a:pt x="225" y="1753"/>
                  </a:lnTo>
                  <a:lnTo>
                    <a:pt x="670" y="0"/>
                  </a:lnTo>
                  <a:lnTo>
                    <a:pt x="430" y="0"/>
                  </a:lnTo>
                  <a:lnTo>
                    <a:pt x="0" y="1696"/>
                  </a:lnTo>
                  <a:close/>
                </a:path>
              </a:pathLst>
            </a:custGeom>
            <a:solidFill>
              <a:srgbClr val="418a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546120" y="-4680"/>
              <a:ext cx="1035000" cy="2673360"/>
            </a:xfrm>
            <a:custGeom>
              <a:avLst/>
              <a:gdLst/>
              <a:ahLst/>
              <a:rect l="l" t="t" r="r" b="b"/>
              <a:pathLst>
                <a:path w="652" h="1684">
                  <a:moveTo>
                    <a:pt x="225" y="1684"/>
                  </a:moveTo>
                  <a:lnTo>
                    <a:pt x="652" y="0"/>
                  </a:lnTo>
                  <a:lnTo>
                    <a:pt x="411" y="0"/>
                  </a:lnTo>
                  <a:lnTo>
                    <a:pt x="0" y="1627"/>
                  </a:lnTo>
                  <a:lnTo>
                    <a:pt x="219" y="1681"/>
                  </a:lnTo>
                  <a:lnTo>
                    <a:pt x="225" y="1684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1" name="Freeform 9"/>
            <p:cNvSpPr/>
            <p:nvPr/>
          </p:nvSpPr>
          <p:spPr>
            <a:xfrm>
              <a:off x="546120" y="2583000"/>
              <a:ext cx="2693880" cy="4275000"/>
            </a:xfrm>
            <a:custGeom>
              <a:avLst/>
              <a:gdLst/>
              <a:ahLst/>
              <a:rect l="l" t="t" r="r" b="b"/>
              <a:pathLst>
                <a:path w="1697" h="2693">
                  <a:moveTo>
                    <a:pt x="0" y="0"/>
                  </a:moveTo>
                  <a:lnTo>
                    <a:pt x="1622" y="2693"/>
                  </a:lnTo>
                  <a:lnTo>
                    <a:pt x="1697" y="26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2" name="Freeform 10"/>
            <p:cNvSpPr/>
            <p:nvPr/>
          </p:nvSpPr>
          <p:spPr>
            <a:xfrm>
              <a:off x="988920" y="2692440"/>
              <a:ext cx="3332160" cy="4165560"/>
            </a:xfrm>
            <a:custGeom>
              <a:avLst/>
              <a:gdLst/>
              <a:ahLst/>
              <a:rect l="l" t="t" r="r" b="b"/>
              <a:pathLst>
                <a:path w="2099" h="2624">
                  <a:moveTo>
                    <a:pt x="2099" y="2624"/>
                  </a:moveTo>
                  <a:lnTo>
                    <a:pt x="0" y="0"/>
                  </a:lnTo>
                  <a:lnTo>
                    <a:pt x="2021" y="2624"/>
                  </a:lnTo>
                  <a:lnTo>
                    <a:pt x="2099" y="2624"/>
                  </a:lnTo>
                  <a:close/>
                </a:path>
              </a:pathLst>
            </a:custGeom>
            <a:solidFill>
              <a:srgbClr val="204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3" name="Freeform 11"/>
            <p:cNvSpPr/>
            <p:nvPr/>
          </p:nvSpPr>
          <p:spPr>
            <a:xfrm>
              <a:off x="984240" y="2687760"/>
              <a:ext cx="4576680" cy="4170240"/>
            </a:xfrm>
            <a:custGeom>
              <a:avLst/>
              <a:gdLst/>
              <a:ahLst/>
              <a:rect l="l" t="t" r="r" b="b"/>
              <a:pathLst>
                <a:path w="2883" h="2627">
                  <a:moveTo>
                    <a:pt x="0" y="0"/>
                  </a:moveTo>
                  <a:lnTo>
                    <a:pt x="3" y="3"/>
                  </a:lnTo>
                  <a:lnTo>
                    <a:pt x="2102" y="2627"/>
                  </a:lnTo>
                  <a:lnTo>
                    <a:pt x="2883" y="2627"/>
                  </a:lnTo>
                  <a:lnTo>
                    <a:pt x="225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16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4" name="Freeform 12"/>
            <p:cNvSpPr/>
            <p:nvPr/>
          </p:nvSpPr>
          <p:spPr>
            <a:xfrm>
              <a:off x="546120" y="2577960"/>
              <a:ext cx="3584520" cy="4280040"/>
            </a:xfrm>
            <a:custGeom>
              <a:avLst/>
              <a:gdLst/>
              <a:ahLst/>
              <a:rect l="l" t="t" r="r" b="b"/>
              <a:pathLst>
                <a:path w="2258" h="2696">
                  <a:moveTo>
                    <a:pt x="2258" y="2696"/>
                  </a:moveTo>
                  <a:lnTo>
                    <a:pt x="264" y="111"/>
                  </a:lnTo>
                  <a:lnTo>
                    <a:pt x="228" y="60"/>
                  </a:lnTo>
                  <a:lnTo>
                    <a:pt x="225" y="57"/>
                  </a:lnTo>
                  <a:lnTo>
                    <a:pt x="0" y="0"/>
                  </a:lnTo>
                  <a:lnTo>
                    <a:pt x="0" y="3"/>
                  </a:lnTo>
                  <a:lnTo>
                    <a:pt x="1697" y="2696"/>
                  </a:lnTo>
                  <a:lnTo>
                    <a:pt x="2258" y="269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316886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316886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316886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316886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316886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37BD-AA43-4D22-9969-06D18F3F165D}" type="datetime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5332320" y="5882760"/>
            <a:ext cx="43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B7C8-AF9F-474E-B76B-2C798DB7AF01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97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418a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98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99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00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04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01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16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02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316886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316886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316886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316886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316886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18D4-CA50-48EE-94FD-4358BFB9CBDC}" type="datetime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10952280" y="586692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C2D9-E656-4E59-83BB-8ED965037607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45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418a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46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47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48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04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16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50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51" name="TextBox 13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316886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316886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316886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316886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316886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A7F0-C699-4A55-852B-2CACB870EACC}" type="datetime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34C3-02C6-4BB9-88B3-76B25B11C8F1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95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418a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96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97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98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04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99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16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00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01" name="TextBox 13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TextBox 14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316886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316886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316886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316886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316886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031F-9B75-460C-B1AA-0AEBF9F3C7C4}" type="datetime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B4E5-A1B2-40A2-9532-9E97A136ADB1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28600" y="1379160"/>
            <a:ext cx="8574120" cy="261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6000" spc="-1" strike="noStrike">
                <a:solidFill>
                  <a:srgbClr val="000000"/>
                </a:solidFill>
                <a:latin typeface="Corbel"/>
              </a:rPr>
              <a:t>Implementacija CFO algoritma unutar ECF-a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14760" y="3995280"/>
            <a:ext cx="6988320" cy="13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524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spcBef>
                <a:spcPts val="524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Corbel"/>
              </a:rPr>
              <a:t>Marko Lukić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spcBef>
                <a:spcPts val="524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Corbel"/>
              </a:rPr>
              <a:t>Mentor: prof. dr. sc. Domagoj Jakobović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orbel"/>
              </a:rPr>
              <a:t>Central Force Optimization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316886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Deterministički algoritam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316886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Bez parametar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316886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Traži minimum ili maksimum funkcije s realnim parametrim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Slide Number Placeholder 1"/>
          <p:cNvSpPr/>
          <p:nvPr/>
        </p:nvSpPr>
        <p:spPr>
          <a:xfrm>
            <a:off x="10952280" y="5867280"/>
            <a:ext cx="55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C636-D52D-4B8A-8387-22F66F88146D}" type="slidenum">
              <a:rPr b="0" lang="hr-HR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orbel"/>
              </a:rPr>
              <a:t>Central Force Optimization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316886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Inspiriran silom gravitacij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316886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Iterativna, a ne kontinuirana pretraga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316886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rbel"/>
              </a:rPr>
              <a:t>Faza stvaranja letjelica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316886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rbel"/>
              </a:rPr>
              <a:t>Faza kretanja letjelica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Slide Number Placeholder 1"/>
          <p:cNvSpPr/>
          <p:nvPr/>
        </p:nvSpPr>
        <p:spPr>
          <a:xfrm>
            <a:off x="10952280" y="5867280"/>
            <a:ext cx="55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7175-8323-4784-AEB0-A0CDF97CE458}" type="slidenum">
              <a:rPr b="0" lang="hr-HR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83920" y="685800"/>
            <a:ext cx="59245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orbel"/>
              </a:rPr>
              <a:t>Početne pozicije letjelica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316886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Paralelno s glavnim osim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316886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Pomicanje uz glavnu dijagonalu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316886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Preferira rješenja blizu ovih pozicij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10952280" y="5867280"/>
            <a:ext cx="55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C7D0-ED9E-49F3-8671-B16B5FF2B884}" type="slidenum">
              <a:rPr b="0" lang="hr-HR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1"/>
          <a:stretch/>
        </p:blipFill>
        <p:spPr>
          <a:xfrm>
            <a:off x="7705800" y="480960"/>
            <a:ext cx="379728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orbel"/>
              </a:rPr>
              <a:t>Kretanje letjelica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316886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Diskretni koraci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316886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Letjelice većom dobrotom privlače sve s manjom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316886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Akceleracija ovisi i o udaljenosti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316886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Brzina (ako se koristi) se određuje pomoću prethodne pozicij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10952280" y="5867280"/>
            <a:ext cx="55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39FC-50ED-42DC-8B6D-0500B6552918}" type="slidenum">
              <a:rPr b="0" lang="hr-HR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orbel"/>
              </a:rPr>
              <a:t>Implementacija u ECF</a:t>
            </a:r>
            <a:r>
              <a:rPr b="0" lang="hr-HR" sz="40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316886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Bitni su vrsta genotipa, broj dimenzija i granice prostor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316886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Usporedba interno izračunate veličine populacije i broja generacija sa zadanim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316886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10952280" y="5867280"/>
            <a:ext cx="55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90FA-43F4-4163-8687-0356AB12D9C6}" type="slidenum">
              <a:rPr b="0" lang="hr-HR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orbel"/>
              </a:rPr>
              <a:t>Tehnički detalji CFO algoritma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316886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Kvadratna složenost u odnosu na broj dimenzija -&gt; smanjivanje broja iteracij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316886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Rezultat ovisi o granicama prostor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316886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Različite formule za akceleraciju i kretanje su bolje za različite probleme – nema najboljih za sve slučajeve, ali ima onih koje su češće dobr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10952280" y="5867280"/>
            <a:ext cx="55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A9D5-8D26-4E31-B0DF-19E56418BA7E}" type="slidenum">
              <a:rPr b="0" lang="hr-HR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orbel"/>
              </a:rPr>
              <a:t>Rezultati (FunctionMin)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484280" y="2622600"/>
          <a:ext cx="9833040" cy="2965320"/>
        </p:xfrm>
        <a:graphic>
          <a:graphicData uri="http://schemas.openxmlformats.org/drawingml/2006/table">
            <a:tbl>
              <a:tblPr/>
              <a:tblGrid>
                <a:gridCol w="1409760"/>
                <a:gridCol w="1716120"/>
                <a:gridCol w="1689120"/>
                <a:gridCol w="1569960"/>
                <a:gridCol w="1811160"/>
                <a:gridCol w="163692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Funkc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18ab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CFO: 5, -50, 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18ab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CFO: 5, -50, 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18ab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SST: 5, 5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18ab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CFO: 10, -50, 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18ab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SST: 5, 1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18ab3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Kvadrat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a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.50449e-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a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.407e-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a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.44527e-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a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.89408e-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a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.32835e-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ae5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chaffer’s F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d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d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.009715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d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.009715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d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.01159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d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.009715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df2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Griewang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a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.13376e-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a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.0123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a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.120397e-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a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.3378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a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.83741e-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ae5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ck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d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d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.21702e-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d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.50284e-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d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.00754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d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.0002176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df2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astrig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a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a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.001507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a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.13163e-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a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.01566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a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7.42406e-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ae5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osenbr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d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.10864e-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d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.9458e-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d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.2926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d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.46261e-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d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.632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df2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chaffer’s F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a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a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.05496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a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.0006440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a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.2399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a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.4930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ae5"/>
                    </a:solidFill>
                  </a:tcPr>
                </a:tc>
              </a:tr>
            </a:tbl>
          </a:graphicData>
        </a:graphic>
      </p:graphicFrame>
      <p:sp>
        <p:nvSpPr>
          <p:cNvPr id="274" name="Slide Number Placeholder 3"/>
          <p:cNvSpPr/>
          <p:nvPr/>
        </p:nvSpPr>
        <p:spPr>
          <a:xfrm>
            <a:off x="10952280" y="5867280"/>
            <a:ext cx="55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5F51-63A5-436F-B2C0-5CD336C4D4C6}" type="slidenum">
              <a:rPr b="0" lang="hr-HR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TextBox 5"/>
          <p:cNvSpPr/>
          <p:nvPr/>
        </p:nvSpPr>
        <p:spPr>
          <a:xfrm>
            <a:off x="1484280" y="2254320"/>
            <a:ext cx="92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rbel"/>
              </a:rPr>
              <a:t>Algoritam: broj dimenzija, (donja granica, gornja granica) ili (maksimalni broj evaluacija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2T21:11:16Z</dcterms:created>
  <dc:creator>Marluk</dc:creator>
  <dc:description/>
  <dc:language>en-US</dc:language>
  <cp:lastModifiedBy>Marko</cp:lastModifiedBy>
  <dcterms:modified xsi:type="dcterms:W3CDTF">2015-01-16T05:05:46Z</dcterms:modified>
  <cp:revision>35</cp:revision>
  <dc:subject/>
  <dc:title>Implementacija CFO algoritma unutar ecf-a</dc:title>
</cp:coreProperties>
</file>